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5FE9-EC48-4055-A2ED-E256FDA4C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o talk about sex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 most complex organism does not have the most chromosom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: 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: 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yotypes usually formed in this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s move centromere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s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but the nucleus =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mm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ttached to inne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4D0-E5BC-4548-ADEB-D1AF4262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5BD-19E9-43D0-AE9A-4EE3E5F2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840-E107-4B17-93E7-6DC2FBFA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CCA-9649-4B8B-8130-F0B34153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7A2-FBA2-4AC2-AED0-A4BE7101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423-738F-4484-903D-184F2EC2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20A-0269-4089-9F59-6B0DB2B5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A86-5F93-49C3-8888-8366CC4C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6A1-D79C-45B6-95F7-88CA5987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60D-01FA-4F6B-9CA1-530C5681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A50-6679-4080-B8AC-A8A4F1FD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517-D6BF-4D14-83AA-0799900F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CE6C-4AAF-4502-8925-F3FD48CA6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iencewithmrmilstid.com/media/chromosome.jpg&amp;imgrefurl=http://www.sciencewithmrmilstid.com/%3Fcat%3D129&amp;usg=__zT0Vb52qpiHHLk0mIhBBeb_faIc=&amp;h=700&amp;w=595&amp;sz=59&amp;hl=en&amp;start=41&amp;um=1&amp;tbnid=9_uEKMPJz59-hM:&amp;tbnh=140&amp;tbnw=119&amp;prev=/images%3Fq%3Dchromosomes%26ndsp%3D20%26hl%3Den%26sa%3DN%26start%3D40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fiveprimegenetics.com/wp-content/uploads/2008/12/chromosomes.jpg&amp;imgrefurl=http://www.fiveprimegenetics.com/&amp;usg=__U1HnaHbugSAE6xl97sPriJZJog8=&amp;h=400&amp;w=300&amp;sz=74&amp;hl=en&amp;start=78&amp;um=1&amp;tbnid=YOICEU1aVT57lM:&amp;tbnh=124&amp;tbnw=93&amp;prev=/images%3Fq%3Dchromosomes%26ndsp%3D20%26hl%3Den%26sa%3DN%26start%3D60%26um%3D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 Growth and Di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27432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09680"/>
            <a:ext cx="601956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1148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781680" y="1752480"/>
            <a:ext cx="2124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705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#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s of every organism have a specific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62120" y="2971800"/>
          <a:ext cx="7391160" cy="3317760"/>
        </p:xfrm>
        <a:graphic>
          <a:graphicData uri="http://schemas.openxmlformats.org/drawingml/2006/table">
            <a:tbl>
              <a:tblPr/>
              <a:tblGrid>
                <a:gridCol w="3695760"/>
                <a:gridCol w="369540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Chromoso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it F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o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loid vs. Haploi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 Cells (2n)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 sets of chromosomes…one from each parent (Example: human body cel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ploid Cells (n)=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only have 1 set of chromosomes (Example: Sperm or Egg 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219320"/>
            <a:ext cx="2133720" cy="143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553080" y="24382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943600" y="4343400"/>
            <a:ext cx="28954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etermine the sex of an organism; either X or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somes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ll the other chromosomes in an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65760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ries of events that cells go through as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gr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cycle, a cell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gro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epares for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divides to form 2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aughter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ach of which then begins the cycle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Main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) Inter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) Cel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480060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between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vis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ell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gro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replicat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ell grow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nd m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NA i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ell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repares for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419720" cy="3198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83800" y="559908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volve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vi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) P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) M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) A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4) T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62720" y="914400"/>
            <a:ext cx="3400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1: Pro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ling of DNA into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uclear membr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eak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Mitotic Spin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mitotic spind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tructures located in the cytoplasm called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entrio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wards opposite sides of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Microtubu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otein tubes) called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pindle fib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 from the centr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pindle fib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to chromosomes at the centromere and help pull chromatids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57800" y="3962520"/>
            <a:ext cx="3591000" cy="2590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36576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790960" cy="4943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3809880" y="3505320"/>
            <a:ext cx="685800" cy="213336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98800" y="5638680"/>
            <a:ext cx="2124000" cy="916920"/>
          </a:xfrm>
          <a:prstGeom prst="rect">
            <a:avLst/>
          </a:prstGeom>
          <a:noFill/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NE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th vs.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animal or plant grows, what happens to its cell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an animal get larger because each cell increases in size (grows) or because it produces more of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: Meta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46479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pindle fi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e chromosomes to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dividing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306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3: Ana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hromat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ach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hromoso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at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entrom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ove toward opposite poles of the dividing c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275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4: Telo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reach poles of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pin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eaks 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uncoil into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hrom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ucle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elopes and 2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ucle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794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of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mal Cell: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Cleavage Fur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ell membrane pinches in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 Cell: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Cell P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ell wall grows between daughter cel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4191120"/>
            <a:ext cx="3733920" cy="2484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" y="4167360"/>
            <a:ext cx="38098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in Re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790960" cy="496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53080" y="533412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\..\..\Downloaded Videos\Cell Division and the Cell Cycle.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3352680"/>
            <a:ext cx="23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\..\..\Downloaded Videos\The Stages of Mitosis.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13560" y="182736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mito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an’t cells grow for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Not enough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NA!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cell increases in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keeps the same amount of DNA.  Eventually the cell will grow too much for the DNA to control all it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Trick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of DNA like a library of books.  If a town (cell) is too big, people may have to wait for book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an’t Cells Grow For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 #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urface 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embrane doesn’t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incre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quickly as cell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little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membr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enough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exch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aterials in and out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a cell becomes too large, it divides to form 2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“daughter cells”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division can only happen once a cell has made a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op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its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D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that each daughter cell can have a full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genetic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Division in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867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is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p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vi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two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two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dent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ughter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is called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inary F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1657440"/>
            <a:ext cx="31528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Division in Eu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und in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hromat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DNA &amp;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rote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eads that  coil into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hromosom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cell di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724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oi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eads of DNA and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ge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ereditary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successfully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v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ew cells to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324480" y="4724280"/>
            <a:ext cx="221004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Chromo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00600" y="1523880"/>
            <a:ext cx="4191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omatids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dent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DNA that ar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nn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hromos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entromer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ea where chromatids ar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ttac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sually at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chromat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0:34:20Z</dcterms:created>
  <dc:creator>Monica</dc:creator>
  <dc:description/>
  <dc:language>en-US</dc:language>
  <cp:lastModifiedBy>Kate</cp:lastModifiedBy>
  <dcterms:modified xsi:type="dcterms:W3CDTF">2011-12-19T00:54:56Z</dcterms:modified>
  <cp:revision>14</cp:revision>
  <dc:subject/>
  <dc:title>Chapter  8 Chromosomes</dc:title>
</cp:coreProperties>
</file>